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E19-D9E1-4A6E-9A5D-E0FE88FA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C43-0C17-43F1-AE97-EC85A3B4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760-CA87-49D5-ABFC-911A0355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405-5C41-4003-8264-F0039D69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F411-38F5-43A7-B0BF-0939C39F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6447-DF08-4146-B852-49E7FC3A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0411-A541-49E4-B19D-B949CC5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8721-7CFA-4081-9ACE-17E56076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F1B0-1829-413F-BF62-E95F140D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ACAE-F949-49B8-BB59-F302F6F2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F0D8-712C-48B8-8508-B3A7F4CB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DD5-01B6-4A50-94DD-ED9D8494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22C-06EC-4537-9EA5-533BCDC8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5EAD-7D42-4360-A30A-55422A6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816B-07E0-4AC1-88FB-D4C15F94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E4A0-5EF4-469A-8D89-3E73E511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85D5-4821-414F-8D5F-BF3BE239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1676E-83BE-43FE-BCE7-D4A9C2F2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6202-DBF2-496E-80B9-61B97AA5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5C9A-842F-421E-BCF6-D1CF198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BF98-527F-40F1-A962-5E8FDE84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E457-E833-48CF-BDD7-A1334689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9E3-C709-489B-A78F-9AFE3757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9D55-1735-49A0-A556-65848E69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523B-426D-4F96-89F4-FE0CCBC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7C77-5ACA-41D2-AC1C-EA7F3FA3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61E0-A1C4-423B-9EFB-07B0E7E5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9A73-CE47-4267-AF22-2A5F9151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0B47-9EEC-4397-BB41-5F2FF6DE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6CD0-0193-482B-BA34-B65990A0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7E6D-A53C-46F9-87B6-3C6AD23F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C9F5-0E2B-4A54-951D-A938BFE0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FF5A7-0DBA-4327-81B2-7BFC6738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F35-3BF4-4226-963F-4CA62E60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934E7-1FC4-465F-9AB6-C7A95B72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1E5C-20FE-4EFB-A6FA-B95DB9A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C0B8-C831-4FC4-AFAC-F77BF278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21FB-0BA4-4BA7-96F2-63228F0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2430-DF1C-4E48-A955-4099B38A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3A441-B139-4648-8A64-89DB9F0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236C9-1C6E-4C2F-A0DF-B8960FB2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A51B-D650-462E-A6CD-BD968A0C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6B43-C470-402F-A6C8-A4CA6ED3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548A5-0E9A-454A-A7A9-62D11CA1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047-DDC0-4204-8C5B-7C3F78C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E51E4-3695-45B8-A190-1383DC5E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28BB-44B4-44C8-ABB4-3026205F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B86C-E28B-46DB-ABB8-6CB50BA5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62CD4-33CD-48EE-A0B4-EB947AB2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AE0E-FF39-45EA-AFF9-4B2D301B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2DB1-DAB7-4CF2-9231-606E555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1E5B-2949-4ACE-9E38-20AC6F84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9B194-BC92-4741-A277-3E85FE1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F7D2E-19E8-47AB-932E-317F4881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7717A-BBBB-4278-A697-D2C4DF61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00D-41DE-4AE4-B5DC-57CE3A6C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92E79-89C2-4E6A-AFBA-23EBEF3E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82AA-EAC0-4CD4-B1AE-1D842E13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21EF-227D-4E12-BABC-8BBA6B54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A7005-3D42-4BDF-A78E-04F90C78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10243-6EDD-4F9B-92B7-58951FA2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0AEAB-0130-4880-9B7D-2BACEA1A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2528F-8941-4557-9E2D-1397CFED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DCF07-DB5C-4592-B573-81B2F71B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A5800-E227-4BAF-812E-275C0AE3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A19AE-0B7C-4617-ABD6-786A9091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6C4-A5D6-4FD1-A62D-7F0C6249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F945-ECF4-41D4-847E-5DBC9909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DBF62-DB3D-4817-B0ED-0F1FAED5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F3087-135D-48EB-939E-D35C0B0C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C7C7B-E50D-4D3C-A158-F3EE844B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0BE3C-0642-4F44-BE70-2BE623A0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2EBDA-1361-49F7-9505-EF0C8890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399F3-7BA1-4293-8908-E0BD7389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8995D-79B0-4D3B-A860-2A873C2C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5FF4B-954D-4F7B-AFAB-C555C7BF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32C29-1847-4825-A5C2-B58B32D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FE0-4193-4138-BC19-D5D4D6CA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63DA7-DC2F-42CF-9117-983CECD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E1EAD-989E-4DA3-AC51-9734F58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7C469-A260-4AFE-942D-CED3F86E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95D4-A691-45C5-8FFC-E64BBE37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DAB42-C3E9-4485-A3DF-09EB2473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76406-2BF3-4C0E-B1A3-95A98FA1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3F672-39DE-47E6-9C11-8D59F754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39C53-3490-4B53-AC75-FCC781C1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076F-BB7D-42C2-BD60-8996F9CD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B0147-D93B-490C-AC43-22EA2947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F8C-531A-47FC-9C5E-D60E5A74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97A08-4045-454B-B764-D77DA876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FC22F-C57B-412A-B264-0DF8D6FD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4E4BB-0B36-4668-9B49-6FD0E9B9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42EEA-68A1-4169-9914-B2151850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DFD21-39FD-445F-BD79-120FDBBD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378A2-D6EC-43C3-AAC9-F9BDE8B0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5E20C-A7E9-4A31-BC5C-95D1D3FC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8F70-350B-474F-9952-B2E7DCB489B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6D0C-3640-4EB3-B4D2-81EC7A82AAF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A143-73E1-4B7A-A660-B77BF4BA868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46C-7088-472F-998E-75CBFD43E27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D3C8-7393-41AB-AE59-5C7A2164066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D1E9-2269-4C38-A849-7C505B1F471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E3A6-E091-42F8-86B0-2D18798D099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1BA1-B662-4188-885C-EF3067DBA92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http://www.channelview.isd.esc4.net/technology/PDF/office2007.pdf" TargetMode="External"/><Relationship Id="rId6" Type="http://schemas.openxmlformats.org/officeDocument/2006/relationships/hyperlink" Target="http://www.channelview.isd.esc4.net/technology/PDF/office2007saving.pdf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Lucida Sans Unicode"/>
              </a:rPr>
              <a:t>What’s New - Wor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item on ribbon to display explanation/defi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067200" cy="2695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5257800" y="2971800"/>
            <a:ext cx="2038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Content Placeholder 2"/>
          <p:cNvSpPr/>
          <p:nvPr/>
        </p:nvSpPr>
        <p:spPr>
          <a:xfrm>
            <a:off x="457200" y="12952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part of standard ribbon ta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 only when object on page is double click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1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05880" cy="552240"/>
          </a:xfrm>
          <a:prstGeom prst="rect">
            <a:avLst/>
          </a:prstGeom>
          <a:ln w="0">
            <a:noFill/>
          </a:ln>
        </p:spPr>
      </p:pic>
      <p:sp>
        <p:nvSpPr>
          <p:cNvPr id="412" name="Content Placeholder 2"/>
          <p:cNvSpPr/>
          <p:nvPr/>
        </p:nvSpPr>
        <p:spPr>
          <a:xfrm>
            <a:off x="2133720" y="4267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Table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609480" y="2895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Picture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5443560" cy="681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4"/>
          <a:stretch/>
        </p:blipFill>
        <p:spPr>
          <a:xfrm>
            <a:off x="2362320" y="5562720"/>
            <a:ext cx="631512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7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forma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to se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not chang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at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apply 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657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t formatting toolbar displays on right cli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5562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3" name=""/>
          <p:cNvGraphicFramePr/>
          <p:nvPr/>
        </p:nvGraphicFramePr>
        <p:xfrm>
          <a:off x="457200" y="1481040"/>
          <a:ext cx="8229600" cy="149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97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doc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374" name="Picture 2" descr=""/>
          <p:cNvPicPr/>
          <p:nvPr/>
        </p:nvPicPr>
        <p:blipFill>
          <a:blip r:embed="rId2"/>
          <a:srcRect l="10979" t="0" r="12325" b="0"/>
          <a:stretch/>
        </p:blipFill>
        <p:spPr>
          <a:xfrm>
            <a:off x="1143000" y="1981080"/>
            <a:ext cx="685800" cy="722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26975" t="20897" r="19116" b="18695"/>
          <a:stretch/>
        </p:blipFill>
        <p:spPr>
          <a:xfrm>
            <a:off x="3352680" y="1981080"/>
            <a:ext cx="598680" cy="685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docx"/>
          <p:cNvPicPr/>
          <p:nvPr/>
        </p:nvPicPr>
        <p:blipFill>
          <a:blip r:embed="rId4"/>
          <a:stretch/>
        </p:blipFill>
        <p:spPr>
          <a:xfrm>
            <a:off x="5562720" y="1981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3"/>
          <p:cNvSpPr/>
          <p:nvPr/>
        </p:nvSpPr>
        <p:spPr>
          <a:xfrm>
            <a:off x="533520" y="3657600"/>
            <a:ext cx="792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lving Common Convers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aaf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ffice 2007 Converter =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Lucida Sans Unicode"/>
                <a:hlinkClick r:id="rId5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aaf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aving as Lower Version =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Lucida Sans Unicode"/>
                <a:hlinkClick r:id="rId6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2743200" cy="3151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5181480" cy="2139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2209320"/>
            <a:ext cx="144792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20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4952880" y="4724280"/>
            <a:ext cx="19814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eviou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more drop down me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p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fice Butt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Toolba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24098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4617b"/>
                </a:solidFill>
                <a:latin typeface="Lucida Sans Unicode"/>
              </a:rPr>
              <a:t>Office Butt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457200" y="2057400"/>
            <a:ext cx="44956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aces “File” 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4533840" y="1371600"/>
            <a:ext cx="46101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s common ta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stomiz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2385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ribbon tab for type of command you wish to per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de/Display Ribb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TRL+F1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menu comma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60674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848360" cy="561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7920000" cy="557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7915320" cy="547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"/>
          <p:cNvPicPr/>
          <p:nvPr/>
        </p:nvPicPr>
        <p:blipFill>
          <a:blip r:embed="rId4"/>
          <a:stretch/>
        </p:blipFill>
        <p:spPr>
          <a:xfrm>
            <a:off x="533520" y="5181480"/>
            <a:ext cx="7920000" cy="552600"/>
          </a:xfrm>
          <a:prstGeom prst="rect">
            <a:avLst/>
          </a:prstGeom>
          <a:ln w="0">
            <a:noFill/>
          </a:ln>
        </p:spPr>
      </p:pic>
      <p:pic>
        <p:nvPicPr>
          <p:cNvPr id="399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881840" cy="552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7896240" cy="552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7886520" cy="5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4"/>
          <a:stretch/>
        </p:blipFill>
        <p:spPr>
          <a:xfrm>
            <a:off x="1371600" y="5029200"/>
            <a:ext cx="7286760" cy="843120"/>
          </a:xfrm>
          <a:prstGeom prst="rect">
            <a:avLst/>
          </a:prstGeom>
          <a:ln w="0">
            <a:noFill/>
          </a:ln>
        </p:spPr>
      </p:pic>
      <p:pic>
        <p:nvPicPr>
          <p:cNvPr id="404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20:15:27Z</dcterms:created>
  <dc:creator>Dina Rich</dc:creator>
  <dc:description/>
  <dc:language>en-US</dc:language>
  <cp:lastModifiedBy>Dina Rich</cp:lastModifiedBy>
  <dcterms:modified xsi:type="dcterms:W3CDTF">2010-05-17T19:31:02Z</dcterms:modified>
  <cp:revision>13</cp:revision>
  <dc:subject/>
  <dc:title>Office 2007</dc:title>
</cp:coreProperties>
</file>